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3D0-90BA-47A7-87B2-9CD4B078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7D5-76F7-4791-B8BB-88FC6C4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21C-C017-4E86-A9EE-3A2726E0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B62-136A-4653-937B-CDFD376F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B96-E176-4659-A54C-219CF06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073-963B-4219-A756-6576316E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E4B-2DE0-4C85-BA52-B6F04B6B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B6F-B2F9-46FC-A0AD-7FE08B9C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A1F-7259-4AA9-82C9-AA1261B4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8A0-8C92-4D16-83F4-0C12969C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C5F-298E-4FCE-9547-B424D94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53F-B4E5-4AD6-9F5E-25CA0452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8936-3234-4A3F-BFF9-51EA3681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4591080"/>
            <a:ext cx="640080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105000"/>
            <a:ext cx="640080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933480"/>
            <a:ext cx="640080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7360" y="2757600"/>
            <a:ext cx="6131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26:15Z</dcterms:modified>
  <cp:revision>7</cp:revision>
  <dc:subject>ECDL</dc:subject>
  <dc:title>Prezentáció forrás, 5.feladat</dc:title>
</cp:coreProperties>
</file>