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525000" cy="6477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BB77-AF77-40C3-9018-4F763B91B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14240" y="1079640"/>
            <a:ext cx="80964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14240" y="2374560"/>
            <a:ext cx="8096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14240" y="4141800"/>
            <a:ext cx="8096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7B4F-DB4C-419A-A49A-D48FCC097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14240" y="1079640"/>
            <a:ext cx="80964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14240" y="2374560"/>
            <a:ext cx="39510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63240" y="2374560"/>
            <a:ext cx="39510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14240" y="4141800"/>
            <a:ext cx="39510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63240" y="4141800"/>
            <a:ext cx="39510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32F8-C9D3-4453-934E-E0C2A12F5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14240" y="1079640"/>
            <a:ext cx="80964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14240" y="2374560"/>
            <a:ext cx="260676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51680" y="2374560"/>
            <a:ext cx="260676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89120" y="2374560"/>
            <a:ext cx="260676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14240" y="4141800"/>
            <a:ext cx="260676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51680" y="4141800"/>
            <a:ext cx="260676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89120" y="4141800"/>
            <a:ext cx="260676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94E2-6ED8-4754-9AFF-626F61FB4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14240" y="1079640"/>
            <a:ext cx="80964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14240" y="2374560"/>
            <a:ext cx="8096400" cy="33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3EA4-ABE9-43A7-804B-41B89540A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14240" y="1079640"/>
            <a:ext cx="80964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14240" y="2374560"/>
            <a:ext cx="8096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CB19-6894-4129-9079-23A98F515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14240" y="1079640"/>
            <a:ext cx="80964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14240" y="2374560"/>
            <a:ext cx="39510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63240" y="2374560"/>
            <a:ext cx="39510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93E5-37A3-4F53-8C99-EDF288C20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14240" y="1079640"/>
            <a:ext cx="80964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F49E-3530-4645-8734-7969EFD28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14240" y="1079640"/>
            <a:ext cx="809640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A5E4-1E14-4942-88E6-CD3DB419B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14240" y="1079640"/>
            <a:ext cx="80964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14240" y="2374560"/>
            <a:ext cx="39510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63240" y="2374560"/>
            <a:ext cx="39510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14240" y="4141800"/>
            <a:ext cx="39510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B0C4-45A4-4D89-B63F-322ED6BF1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14240" y="1079640"/>
            <a:ext cx="80964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14240" y="2374560"/>
            <a:ext cx="39510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63240" y="2374560"/>
            <a:ext cx="39510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63240" y="4141800"/>
            <a:ext cx="39510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D4D6-BC76-4C2D-97AC-71E4C8126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14240" y="1079640"/>
            <a:ext cx="80964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14240" y="2374560"/>
            <a:ext cx="39510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63240" y="2374560"/>
            <a:ext cx="39510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14240" y="4141800"/>
            <a:ext cx="8096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4E4C-6E07-466E-8C66-23953E142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14240" y="1079640"/>
            <a:ext cx="80964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14240" y="2374560"/>
            <a:ext cx="8096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6000" indent="-185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66440" indent="-18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66440" indent="-18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66440" indent="-18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13880" y="5900400"/>
            <a:ext cx="19846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54400" y="5900400"/>
            <a:ext cx="30160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6320" y="5900400"/>
            <a:ext cx="19843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46C21-4BD1-4F51-ABF8-F501DCB44D36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763560"/>
            <a:ext cx="4762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400" y="28584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Felmérés az internet-használók köréb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14240" y="1079640"/>
            <a:ext cx="80964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Times New Roman"/>
              </a:rPr>
              <a:t>A felmérésben résztvevők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14240" y="2374560"/>
            <a:ext cx="8096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Középiskolás diák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Főiskolások, egyetemistá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zellemi foglalkozásúa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14240" y="1079640"/>
            <a:ext cx="80964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Times New Roman"/>
              </a:rPr>
              <a:t>Az internetet rendszeresen használók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66560" y="2519280"/>
          <a:ext cx="2926080" cy="25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2519280"/>
                    <a:ext cx="2926080" cy="25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3433680" y="2519280"/>
          <a:ext cx="2925720" cy="2543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33680" y="2519280"/>
                    <a:ext cx="2925720" cy="25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6450120" y="2519280"/>
          <a:ext cx="2925720" cy="2543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50120" y="2519280"/>
                    <a:ext cx="2925720" cy="25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4444920" y="5456160"/>
            <a:ext cx="317520" cy="2890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44920" y="5024520"/>
            <a:ext cx="317520" cy="288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763160" y="495288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763160" y="538488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14240" y="1079640"/>
            <a:ext cx="80964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Times New Roman"/>
              </a:rPr>
              <a:t>Naponta a hálózaton töltött idő az internetezők körébe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714240" y="2374920"/>
          <a:ext cx="8096400" cy="338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4240" y="2374920"/>
                    <a:ext cx="8096400" cy="33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14240" y="1079640"/>
            <a:ext cx="80964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Times New Roman"/>
              </a:rPr>
              <a:t>Előrejelzések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4114800"/>
            <a:ext cx="3505320" cy="1523880"/>
          </a:xfrm>
          <a:prstGeom prst="rightArrow">
            <a:avLst>
              <a:gd name="adj1" fmla="val 37704"/>
              <a:gd name="adj2" fmla="val 63523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17:42:55Z</dcterms:created>
  <dc:creator>NJSZT</dc:creator>
  <dc:description/>
  <dc:language>en-US</dc:language>
  <cp:lastModifiedBy>.</cp:lastModifiedBy>
  <dcterms:modified xsi:type="dcterms:W3CDTF">2003-05-25T15:48:23Z</dcterms:modified>
  <cp:revision>9</cp:revision>
  <dc:subject>ECDL</dc:subject>
  <dc:title>Prezentáció forrás, 50.feladat</dc:title>
</cp:coreProperties>
</file>