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3459-6163-45EC-8694-54BC0E2EB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6448-8534-4ABB-82EA-13B1CADD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BE71-5B37-44BA-9E2D-C3C7E35EA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1377-B402-4B1D-8A64-28B8A11EA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3846-09BE-448F-8572-2D074270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DD6D-5C63-4F31-8CD4-1A825828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12EF-F521-4C8D-A606-AF1AE44A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C244-9DDE-478D-985F-DEC7A5AB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8496-DC45-463A-BBDB-61D9518A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BD2F-8DE3-486C-8596-0709BA9B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CBA5-4E5B-460D-ABFF-C7FAA6A4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4788-3B30-4F6B-BF30-0C83ABE0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1876-C12B-466E-8A31-B168C0BB5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98840" y="639720"/>
            <a:ext cx="7544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Times New Roman"/>
              </a:rPr>
              <a:t>XXX 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Times New Roman"/>
              </a:rPr>
              <a:t>Pi</a:t>
            </a:r>
            <a:r>
              <a:rPr b="0" lang="hu-HU" sz="18000" spc="-1" strike="noStrike">
                <a:solidFill>
                  <a:srgbClr val="000000"/>
                </a:solidFill>
                <a:latin typeface="Times New Roman"/>
              </a:rPr>
              <a:t>zzéria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47920" y="4591080"/>
            <a:ext cx="6095880" cy="3808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3105000"/>
            <a:ext cx="6095880" cy="38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933480"/>
            <a:ext cx="6095880" cy="3808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876240"/>
            <a:ext cx="5639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zzá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mbá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5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jtos, gombá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5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öldsé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wa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0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logna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5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al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Ásványví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Ft/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zénsavas üdít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 Ft/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stos üdít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 Ft/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szer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sztenyepür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gylaltkehe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90240" y="2754360"/>
            <a:ext cx="626688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65520"/>
                <a:tab algn="l" pos="4670280"/>
                <a:tab algn="l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yitvatartá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–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9.00–21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5520"/>
                <a:tab algn="l" pos="4670280"/>
                <a:tab algn="l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zo–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00–23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5520"/>
                <a:tab algn="l" pos="4670280"/>
                <a:tab algn="l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ztalfoglalás és megrendelés: (10) 123-4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19:23:51Z</dcterms:created>
  <dc:creator>NJSZT</dc:creator>
  <dc:description/>
  <dc:language>en-US</dc:language>
  <cp:lastModifiedBy>.</cp:lastModifiedBy>
  <dcterms:modified xsi:type="dcterms:W3CDTF">2003-05-24T21:34:15Z</dcterms:modified>
  <cp:revision>6</cp:revision>
  <dc:subject>ECDL</dc:subject>
  <dc:title>Prezentáció forrás, 6.feladat</dc:title>
</cp:coreProperties>
</file>