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FF53-C9C9-4270-B714-10B6D0B5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D40B-3A85-495E-ABC9-1F10E7EA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05D8-7D3A-4AFE-9711-4812BEC1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C334-DC3B-44D8-B1E7-4B317384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B8ED-450E-4C1B-B977-EC2AA5E9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C243-C86A-4E8B-A6E0-80CC10EF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6EC8-8FC8-4B8A-8A8A-53416A4A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4F8B-BAC8-4C1A-B765-E5446512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2C00-EDA2-4BF9-AAA5-92B0B467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0AAD-057A-4FF4-8774-6CF08A01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DFBB-651D-499D-BCB2-63094E08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BB43-3AD4-45FF-B446-3FF5AB7E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ED05-15F9-4A57-BC4D-D7B1F06578D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1792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3640" y="64976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780040" y="-14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600760" y="1774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-3600" y="649620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175320" y="63165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604360" y="63183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83920" y="774720"/>
            <a:ext cx="6176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Ha minket választ,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lvisszük Önt a vilá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ármely részére!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szeresen szervezünk utazásokat a világ számos országá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900000">
            <a:off x="2514240" y="25909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320" y="25146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á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900000">
            <a:off x="4571640" y="20574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1280" y="19810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a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900000">
            <a:off x="1599840" y="44197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560" y="43434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r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900000">
            <a:off x="3580920" y="38862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2360" y="3809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900000">
            <a:off x="5028840" y="3124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048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la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900000">
            <a:off x="2819160" y="53341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0600" y="5257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900000">
            <a:off x="4876560" y="49528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7280" y="4876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örök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900000">
            <a:off x="6552720" y="40384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440" y="39625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mbab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900000">
            <a:off x="990360" y="1981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1080" y="1905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900000">
            <a:off x="6705360" y="23623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6800" y="22860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örög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71640" y="1628640"/>
            <a:ext cx="3598920" cy="3598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81320" y="2101680"/>
            <a:ext cx="6383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8000 Székesfehérvá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Kalap u. 33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Tel.: (22) 111-11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6696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228600"/>
            <a:ext cx="426744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1:27:27Z</dcterms:created>
  <dc:creator>NJSZT</dc:creator>
  <dc:description/>
  <dc:language>en-US</dc:language>
  <cp:lastModifiedBy>.</cp:lastModifiedBy>
  <dcterms:modified xsi:type="dcterms:W3CDTF">2003-05-24T21:45:47Z</dcterms:modified>
  <cp:revision>8</cp:revision>
  <dc:subject>ECDL</dc:subject>
  <dc:title>Prezentáció forrás, 7.feladat</dc:title>
</cp:coreProperties>
</file>