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2929E2-249E-4264-8844-885F53EFE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12B454-5E0C-4FBB-BDEF-FBD0CC553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DBE383-26B5-4548-8CC0-2E5CD05DB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FEDBE0-8B5C-49E6-B216-3C1CA2723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0F565-1D0F-4A4D-843B-5D4D8FA91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A3317-D707-4A10-95E8-641E41FEF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F1C626-2A4E-49CD-953C-5237C529D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0DA5C-43AD-4BA5-8FDF-FC756BDE5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5585A3-D2A0-4415-9540-0598D11DE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5D9A13-8351-459B-98AD-5163E49F8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8ED54F-3455-44DA-A941-1670ABC36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E8E815-3355-49DE-ADFC-86EB9529A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1C222-6017-492D-90C8-DC1C8FFA9758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360360" cy="3603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79280" y="179280"/>
            <a:ext cx="360360" cy="3603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783640" y="6497640"/>
            <a:ext cx="360360" cy="3603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5400000">
            <a:off x="8780040" y="-1440"/>
            <a:ext cx="360360" cy="3603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rot="5400000">
            <a:off x="8600760" y="177480"/>
            <a:ext cx="360360" cy="3603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 rot="5400000">
            <a:off x="-3600" y="6496200"/>
            <a:ext cx="360360" cy="3603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5400000">
            <a:off x="175320" y="6316560"/>
            <a:ext cx="360360" cy="3603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8604360" y="6318360"/>
            <a:ext cx="360360" cy="3603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483920" y="774720"/>
            <a:ext cx="617616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5600" spc="-1" strike="noStrike">
                <a:solidFill>
                  <a:srgbClr val="008000"/>
                </a:solidFill>
                <a:latin typeface="Times New Roman"/>
              </a:rPr>
              <a:t>Ha minket választ,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8000"/>
                </a:solidFill>
                <a:latin typeface="Times New Roman"/>
              </a:rPr>
              <a:t>e</a:t>
            </a:r>
            <a:r>
              <a:rPr b="0" lang="hu-HU" sz="5600" spc="-1" strike="noStrike">
                <a:solidFill>
                  <a:srgbClr val="008000"/>
                </a:solidFill>
                <a:latin typeface="Times New Roman"/>
              </a:rPr>
              <a:t>lvisszük Önt a világ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8000"/>
                </a:solidFill>
                <a:latin typeface="Times New Roman"/>
              </a:rPr>
              <a:t>b</a:t>
            </a:r>
            <a:r>
              <a:rPr b="0" lang="hu-HU" sz="5600" spc="-1" strike="noStrike">
                <a:solidFill>
                  <a:srgbClr val="008000"/>
                </a:solidFill>
                <a:latin typeface="Times New Roman"/>
              </a:rPr>
              <a:t>ármely részére!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000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6094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ndszeresen szervezünk utazásokat a világ számos országá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900000">
            <a:off x="2514240" y="2590920"/>
            <a:ext cx="360360" cy="3603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515320" y="251460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á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900000">
            <a:off x="4571640" y="2057400"/>
            <a:ext cx="360360" cy="3603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1280" y="1981080"/>
            <a:ext cx="189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nciaorszá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900000">
            <a:off x="1599840" y="4419720"/>
            <a:ext cx="360360" cy="3603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600560" y="4343400"/>
            <a:ext cx="11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Írorszá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900000">
            <a:off x="3580920" y="3886200"/>
            <a:ext cx="360360" cy="3603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582360" y="380988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pá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rot="900000">
            <a:off x="5028840" y="3124080"/>
            <a:ext cx="360360" cy="3603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029200" y="304812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llan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rot="900000">
            <a:off x="2819160" y="5334120"/>
            <a:ext cx="360360" cy="3603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20600" y="5257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í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900000">
            <a:off x="4876560" y="4952880"/>
            <a:ext cx="360360" cy="3603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877280" y="48769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örökorszá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rot="900000">
            <a:off x="6552720" y="4038480"/>
            <a:ext cx="360360" cy="3603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553440" y="3962520"/>
            <a:ext cx="148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imbab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rot="900000">
            <a:off x="990360" y="1981080"/>
            <a:ext cx="360360" cy="3603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91080" y="190512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900000">
            <a:off x="6705360" y="2362320"/>
            <a:ext cx="360360" cy="3603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706800" y="2286000"/>
            <a:ext cx="175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örögorszá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000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771640" y="1628640"/>
            <a:ext cx="3598920" cy="35989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381320" y="2101680"/>
            <a:ext cx="638316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8000"/>
                </a:solidFill>
                <a:latin typeface="Times New Roman"/>
              </a:rPr>
              <a:t>8000 Székesfehérvár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8000"/>
                </a:solidFill>
                <a:latin typeface="Times New Roman"/>
              </a:rPr>
              <a:t>Kalap u. 33.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8000"/>
                </a:solidFill>
                <a:latin typeface="Times New Roman"/>
              </a:rPr>
              <a:t>Tel.: (22) 111-111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000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5T21:27:27Z</dcterms:created>
  <dc:creator>NJSZT</dc:creator>
  <dc:description/>
  <dc:language>en-US</dc:language>
  <cp:lastModifiedBy>.</cp:lastModifiedBy>
  <dcterms:modified xsi:type="dcterms:W3CDTF">2003-03-10T17:56:40Z</dcterms:modified>
  <cp:revision>7</cp:revision>
  <dc:subject>ECDL</dc:subject>
  <dc:title>Prezentáció forrás, 8.feladat</dc:title>
</cp:coreProperties>
</file>