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E8E-C173-46F5-B8E7-54B98801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33D-0A39-46C2-B43A-1D14B897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9970-3C3B-4048-80C2-8EA57E11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BA0-7B33-4E4C-840B-679116C8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919-DC30-4991-9866-DA3489F4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BCD-588A-4132-9FBD-33C31D00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F48-9584-41E1-9730-C010874D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02F-8BE2-49A0-918D-039EE632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4A0-8846-4CEE-9D01-BAC4F1A7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F12-50E4-4322-9173-F443B23F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BEA5-4D70-4D65-85DF-8DF03D91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BA1-B414-4FD3-9631-54477EDF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5B13-5E02-4998-AA0D-5BB8F11E1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84360" y="1941480"/>
            <a:ext cx="7703280" cy="4102200"/>
            <a:chOff x="684360" y="1941480"/>
            <a:chExt cx="7703280" cy="4102200"/>
          </a:xfrm>
        </p:grpSpPr>
        <p:cxnSp>
          <p:nvCxnSpPr>
            <p:cNvPr id="43" name="_s2061"/>
            <p:cNvCxnSpPr>
              <a:stCxn id="44" idx="0"/>
              <a:endCxn id="45" idx="2"/>
            </p:cNvCxnSpPr>
            <p:nvPr/>
          </p:nvCxnSpPr>
          <p:spPr>
            <a:xfrm flipV="1" rot="16200000">
              <a:off x="5473800" y="2644200"/>
              <a:ext cx="820800" cy="269676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2060"/>
            <p:cNvCxnSpPr>
              <a:stCxn id="47" idx="0"/>
              <a:endCxn id="45" idx="2"/>
            </p:cNvCxnSpPr>
            <p:nvPr/>
          </p:nvCxnSpPr>
          <p:spPr>
            <a:xfrm rot="16200000">
              <a:off x="4125600" y="3992400"/>
              <a:ext cx="82080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2059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2777040" y="2644560"/>
              <a:ext cx="820800" cy="269640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2055"/>
            <p:cNvSpPr/>
            <p:nvPr/>
          </p:nvSpPr>
          <p:spPr>
            <a:xfrm>
              <a:off x="3380400" y="194148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Times New Roman"/>
                </a:rPr>
                <a:t>John Sm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Times New Roman"/>
                </a:rPr>
                <a:t>dir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_s2056"/>
            <p:cNvSpPr/>
            <p:nvPr/>
          </p:nvSpPr>
          <p:spPr>
            <a:xfrm>
              <a:off x="684360" y="440280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_s2057"/>
            <p:cNvSpPr/>
            <p:nvPr/>
          </p:nvSpPr>
          <p:spPr>
            <a:xfrm>
              <a:off x="3380400" y="440280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_s2058"/>
            <p:cNvSpPr/>
            <p:nvPr/>
          </p:nvSpPr>
          <p:spPr>
            <a:xfrm>
              <a:off x="6076800" y="440280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0:01:16Z</dcterms:created>
  <dc:creator>NJSZT</dc:creator>
  <dc:description/>
  <dc:language>en-US</dc:language>
  <cp:lastModifiedBy>Rokobauer József</cp:lastModifiedBy>
  <dcterms:modified xsi:type="dcterms:W3CDTF">2008-05-14T14:20:47Z</dcterms:modified>
  <cp:revision>2</cp:revision>
  <dc:subject>ECDL</dc:subject>
  <dc:title>Prezentáció forrás, 8b.feladat</dc:title>
</cp:coreProperties>
</file>