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9F0-D7E7-4A65-92EE-3416B88A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65A-DAB5-4315-BEAD-82250A8B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548-EB23-4CE5-A930-8CFDAF5A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766-AB10-471E-9E9D-B99BE039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856-7B6B-4E8C-8DD7-E9799B0A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E4D-D96D-4A31-957E-B7AE70D4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C90-BF2D-4CE0-941F-6953E654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F24-1FCB-4EF6-A6F9-17BF02C6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C52-F5A9-484A-A169-D3A9480F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5E1-039E-4AA2-ACA3-991F34EB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D87-6D6C-4701-871C-B58A1F92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73D2-E8AF-47BF-9C4F-C504DB39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277480" cy="611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2D9D-E71F-4149-AB0B-2936C220682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z XXX-Komplex szolgáltatóház tevékenységi köre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Adótanácsad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Befektetési tanácsad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Egyéni vállalkozók, társaságok könyvvi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Jogi ügyinté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Ingatlanközvet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Nyomdai szolgált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Szöveg- és kiadványszerk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Rendezvények, konferenciák lebonyol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Reklám- és marketingtevékeny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Utazási ir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Speciális egyéni szolgált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 Szolgáltatóház bevétel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-ben a főbb tevékenységekbő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Szolgáltatóház partnere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3:21:36Z</dcterms:created>
  <dc:creator>NJSZT</dc:creator>
  <dc:description/>
  <dc:language>en-US</dc:language>
  <cp:lastModifiedBy>Rokobauer József</cp:lastModifiedBy>
  <dcterms:modified xsi:type="dcterms:W3CDTF">2008-11-07T14:39:16Z</dcterms:modified>
  <cp:revision>8</cp:revision>
  <dc:subject>ECDL</dc:subject>
  <dc:title>Prezentáció forrás, 9.feladat</dc:title>
</cp:coreProperties>
</file>